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CFF-2F0C-4099-A08A-87238A75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EC5-5643-4C30-9373-95E7A6BE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62D-D2E5-4F7A-8296-D7434984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558-B084-4261-8980-F693D671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7CA7-284A-48F0-886C-0DD9A62E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0EA7-223F-4D4A-BC34-B4D47A63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15A0-08E4-4E44-86CD-D13BBB76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8325-97B2-44EA-877F-32C7B606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599C-7AE0-4ED7-91C8-81591F65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8916-88F4-4B7E-9ACA-672375C7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CB6E-7AA8-4F0B-A006-1F0E5E1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EE6-3854-4EA0-83D3-14F877B1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9824-F461-420D-9B55-D11BB57B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6A0D-F383-4B17-AE61-61F4D618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93DF-E1A9-4B57-BA8C-83AC30B1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AD4F-F90C-449A-B6C0-2F4C9CCF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132B-5725-4215-A600-B332E7B2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0BB-69B5-491D-BD26-F1FDB582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446-4705-4E1B-87B2-A5612980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815-270D-4486-A2DE-1E93513B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246-9D8C-4E96-A939-42EC60CE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B2A-596F-4B19-8E75-61ACE94D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206-7D7A-4EA5-BE92-8411B71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C09-93A7-4852-8D6F-4A67D4C2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F29E-4491-4C37-AD27-8BF56FDFF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B398-6380-48AC-971E-0B7A9B4BC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ulletins.psu.edu/bulletins/bluebook/university_course_descriptions.cfm?letter=B&amp;courselong=%7C%7Clatest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ulletins.psu.edu/bulletins/bluebook/university_course_descriptions.cfm?letter=B&amp;courselong=%7C%7Clates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e Evolution of Peer Assisted Learning at Penn State, University Par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A Training Tra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Lead – Sophomore/Junio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ant Undergraduate TA – Junior/Senio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graduate TA – Senio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rted about ten years ago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ous benefactor gave funds to help at risk students in the Biology Core Courses (4 intro courses all majors t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red tutors from students who had done well (B+ or better) in the course the previous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tor training mini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solicited to join after first ex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se earning ~70%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 weekly in small groups (~4 students) – question/answer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s eventually ran out but continued by giving tutors course cr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ormal assessment but conclusion was that this approach didn’t work for the truly struggling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logy 00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r Learning in Biology (1 credi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 and learning skills to facilitate the understanding of complex biological proc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requisite: Concurrent enrollment in biology or life science course and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ermission of progra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offered in Spring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four core cour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solicited at the beginning of the semes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ail to those enrolled in the cou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ed any student to en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could enroll later in the semester if they felt they needed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ormal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tutor training and having stronger students in the groups seemed to hel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logy 25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Leadership in Biology (1 credi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 training in guiding others to learn, communicate, and apply biological princip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requisite: 8 credits in biology or life science courses and permission of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gr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for tutor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meetings but variable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mor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ed a dedicated instr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cent Improvements                   (2009 – present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register for the course before the semester be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dd later if there is spac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appears on their class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instructors took charge of Bio 003 and Bio 2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tructured tutor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er expectations for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 (Sat/Un) based upon performance, not just 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logy 110 – Fall 20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re course – Basic Concepts and Biod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66 students (mostl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mes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6 enrolled in Bio 003 – ~10 students per section –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/expectations survey at begi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zes/discussions on note taking and effective learning techniq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 packets (worksheets) to guide discu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s, summarize lecture, thought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 peer leaders in Bio 2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ekly peer leader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 evaluations other info still being analy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 003 Survey 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31920" y="1285920"/>
            <a:ext cx="4217760" cy="4983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4467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io 251 Survey Results –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d of semest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44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nges for Spring 201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 220W – Populations and Comm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400 students in cou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19 students in Bio 003 (6 peer leaders) – 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add as semester prog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 240W – Animal and Plant Physio/D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625 students in cou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48 students in Bio 003 (9 peer leaders) – 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week, a different student is responsible for summarizing the lectures from the previous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students must write multiple choice questions for the same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results – more interactive, stronger students are not dominating the discussion each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6:11:08Z</dcterms:created>
  <dc:creator>hass</dc:creator>
  <dc:description/>
  <dc:language>en-US</dc:language>
  <cp:lastModifiedBy>hass</cp:lastModifiedBy>
  <dcterms:modified xsi:type="dcterms:W3CDTF">2011-03-10T22:57:04Z</dcterms:modified>
  <cp:revision>7</cp:revision>
  <dc:subject/>
  <dc:title>The Evolution of Peer Assisted Learning at Penn State, UP</dc:title>
</cp:coreProperties>
</file>